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39C-815A-4E30-B4BC-6DBF4F45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500-8DA7-46DB-B6B0-21EA4762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39B-7C9A-4904-8EA4-0D2031CC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B5A-84FB-4718-816E-ECF38EB8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FFEB-DECE-414F-817D-30B55E5D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E64A-0B6A-4C7A-A195-FC5A634A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E625-D508-41CD-A2D3-03D4D2AF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404B-548D-4AAD-81FF-1D621373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F2DF-8241-41D2-BF94-F679D2C2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2D9C-7067-474E-800C-59EC7CA7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3381-DF08-4506-955A-8D5DA245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1A8-E2AA-41D7-A603-CC79087F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9327-EF50-4C47-BD30-BB643F74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0080-8CCF-4410-BB68-548D4471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5362-FA33-4668-B88F-B27C7D6C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C1C0-2530-4B46-A278-EE617B9D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4304-832D-4AD0-8684-7AD24510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B3A-D0C2-48D4-8B06-24207878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26D-3BA1-4E65-925A-7B75B288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F9D-F9A2-4A6B-AF4E-A8A7F1D3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E08-E28F-4776-97ED-D99D67FE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3C1-003B-4728-82A5-66C3361E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B3F-9412-4933-BE45-113A6904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E0A-F5F1-4C5F-868A-63266249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764A-5A84-4197-ACB7-D06BC37FC4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BC15-01C6-4CEF-88D8-ED165816A1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atient’s Bill of Righ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dical Law and Eth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 The Patient’s Bill of Rights promotes patient autonom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 In 1973, the American Hospital Association approved a statement constituting a Patient’s Bill of Rights which guarantees the patient’s right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 considerate and respectful c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 complete current information concerning his/her diagnosis, treatment, and pro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 information necessary to give informed consent prior to the start of any procedure and/or 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se treatment to the extent permitted by the la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 every consideration of his/her priva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ssured of confidenti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reasonable responses to requests for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information about his/her health c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 whether treatment is experimen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reasonable continuity of c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his/her bill and have it explai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 which hospital rules and regulations apply to patient con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A copy of the Patient’s Bill of Rights should be readily visible in all hospi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.  Anyone admitted to a hospital should receive a copy of the Patient’s Bill of Rights at the time of admi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ient also has implied responsibili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ollow any instructions given by the physician and to cooperate as much as pos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ive all relevant information to the physician in order to reach a correct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n incorrect diagnosis is made because the patient fails to give the physician proper information, the physician may not be li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ollow the physician’s orders for treatment, provided the treatment meets the accepted standard of c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atient willfully or negligently fails to follow the physician’s instructions, that patient may have little legal recou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ay fees for services rend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6:15:36Z</dcterms:created>
  <dc:creator>anitaw</dc:creator>
  <dc:description/>
  <dc:language>en-US</dc:language>
  <cp:lastModifiedBy>System Admin</cp:lastModifiedBy>
  <dcterms:modified xsi:type="dcterms:W3CDTF">2009-07-29T18:23:34Z</dcterms:modified>
  <cp:revision>3</cp:revision>
  <dc:subject/>
  <dc:title>Patient’s Bill of Rights</dc:title>
</cp:coreProperties>
</file>